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8.jpeg" ContentType="image/jpe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19AA-1EFE-44EF-91AE-FB106CEC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BC1D-B2C0-44D4-B0C1-C7FAF643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BA48-BA6D-4B25-BDD0-B48411F9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69F-6434-41B1-AF9D-CAD92642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7B0A-0BB5-486F-B585-DEBE46F9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961D-5C50-4BFA-962F-823FE932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D592-8C44-47AC-826A-61AD6D53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0919-C3BD-4613-B2C4-CF74F937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68D0-D360-4C44-96A0-B5985B14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BDC6-D5A3-4BCE-9F92-11F96F33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A76E-8C21-4A3F-A418-4600468B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9D30-9723-4DFF-B028-EEDC15CF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417F-823C-4DA6-9F1D-954EA0C8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7C0C-7F32-4E8F-B2D2-AFB1F76F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2E1C-2F12-4E04-9BE7-A846CCBB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9007-F6B7-4766-99D0-D8A4190C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6E4C-88C3-49A2-B052-AD4C1B4C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21A8F-2E2F-4276-882F-653F0415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4A3B-F165-4CD5-99C5-99AA49E2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0A27-3549-4F7F-B1F4-D80188A3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F3E27-FAB9-4A93-903F-A1F5685D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3095B-4C1F-437B-8E68-68D6D5FA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C9E-38A0-40B4-A355-31321C51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EFB61-F9A6-4461-923A-8EBF1D38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9E45-8F79-4752-9F82-3F9111F8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8F897-D549-4E3F-AD1D-D1A1781C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4742E-95DA-4C93-B48B-13A54F5F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045A4-96B6-4079-9BD6-4CAA1052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40635-76B5-4F28-B450-2957B8E7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E0201-CBAF-45A6-8FC1-A645B86A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12CBF-CDD0-4FBE-A2D9-C6EF0890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E56CC-C2F4-4B82-AC31-E2020AAF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B6DBE-8246-45AB-B7C4-400D1397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F32-0D9E-4D66-B16A-59B8E7F1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D2E19-9954-43B1-A1E1-C6ED0153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A046C-38DE-4D15-BE65-6E8C0770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C4B04-9999-4DF0-B89C-47FFD2AC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E8BDF-7D15-4923-9330-5879DDDA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B97CD-979B-4376-BC6F-D3B443C3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33EB1-A503-4D52-842E-E37BD1D7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192AA-F056-417B-B55C-0645505D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05CF5-C556-4E6A-B7B0-EA3B098B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4CEA5-1277-4A55-AAC2-D569AAC3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3B5-3420-4782-9B57-0BAE8649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2EBF-9BE9-463B-B8EF-EF00FD3C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D45-F844-41F5-9661-B93BEA6A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2B64-0B56-4676-9487-0129FC9A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ACF-31E3-49DE-9E7D-2BC2B82E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B3A5-4994-41FC-AC73-47D84DB87B2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2649-BC70-48D6-99D3-BDC51C374F0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EB42-0149-41F1-923B-D0FA41D22ED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FC38-23C2-4D9A-B205-B586E60527D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1163520" y="1395360"/>
            <a:ext cx="7785360" cy="11588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4"/>
          <p:cNvSpPr/>
          <p:nvPr/>
        </p:nvSpPr>
        <p:spPr>
          <a:xfrm>
            <a:off x="590400" y="1035000"/>
            <a:ext cx="7975800" cy="5308560"/>
          </a:xfrm>
          <a:prstGeom prst="rect">
            <a:avLst/>
          </a:prstGeom>
          <a:solidFill>
            <a:srgbClr val="99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990720" y="469800"/>
            <a:ext cx="74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What Should a Business Plan Contai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711360" y="1206360"/>
            <a:ext cx="78865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tter of Transmitt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 Title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  Table of Cont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  Executive Summary and Fact She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  Body of the Pl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any and Indus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duct/Service O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rketing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velopment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duction/Operations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nagement T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Schedule and Risks Associated with the Ven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nancial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.  Append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5784480" y="658188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3354480" y="92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19" descr="C:\Program Files\Microsoft Office\Clipart\Popular\wearhat.wmf"/>
          <p:cNvPicPr/>
          <p:nvPr/>
        </p:nvPicPr>
        <p:blipFill>
          <a:blip r:embed="rId1"/>
          <a:stretch/>
        </p:blipFill>
        <p:spPr>
          <a:xfrm>
            <a:off x="5029200" y="1143000"/>
            <a:ext cx="3306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7" dur="1" fill="hold"/>
                                  <p:tgtEl>
                                    <p:spTgt spid="232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305080" y="439560"/>
            <a:ext cx="4380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585720" y="1103400"/>
            <a:ext cx="7586640" cy="5176800"/>
            <a:chOff x="585720" y="1103400"/>
            <a:chExt cx="7586640" cy="5176800"/>
          </a:xfrm>
        </p:grpSpPr>
        <p:sp>
          <p:nvSpPr>
            <p:cNvPr id="238" name="AutoShape 4"/>
            <p:cNvSpPr/>
            <p:nvPr/>
          </p:nvSpPr>
          <p:spPr>
            <a:xfrm>
              <a:off x="3841920" y="4844880"/>
              <a:ext cx="4330440" cy="14353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AutoShape 5"/>
            <p:cNvSpPr/>
            <p:nvPr/>
          </p:nvSpPr>
          <p:spPr>
            <a:xfrm>
              <a:off x="3841920" y="3981600"/>
              <a:ext cx="4330440" cy="62208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AutoShape 6"/>
            <p:cNvSpPr/>
            <p:nvPr/>
          </p:nvSpPr>
          <p:spPr>
            <a:xfrm>
              <a:off x="3841920" y="2622600"/>
              <a:ext cx="4330440" cy="10922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AutoShape 7"/>
            <p:cNvSpPr/>
            <p:nvPr/>
          </p:nvSpPr>
          <p:spPr>
            <a:xfrm>
              <a:off x="3841920" y="1536840"/>
              <a:ext cx="4330440" cy="8125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2" name="Group 8"/>
            <p:cNvGrpSpPr/>
            <p:nvPr/>
          </p:nvGrpSpPr>
          <p:grpSpPr>
            <a:xfrm>
              <a:off x="687240" y="1504800"/>
              <a:ext cx="2298960" cy="876600"/>
              <a:chOff x="687240" y="1504800"/>
              <a:chExt cx="2298960" cy="876600"/>
            </a:xfrm>
          </p:grpSpPr>
          <p:sp>
            <p:nvSpPr>
              <p:cNvPr id="243" name="Oval 9"/>
              <p:cNvSpPr/>
              <p:nvPr/>
            </p:nvSpPr>
            <p:spPr>
              <a:xfrm>
                <a:off x="687240" y="1504800"/>
                <a:ext cx="2298960" cy="87660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10"/>
              <p:cNvSpPr/>
              <p:nvPr/>
            </p:nvSpPr>
            <p:spPr>
              <a:xfrm>
                <a:off x="765720" y="1652760"/>
                <a:ext cx="21420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etter of Transmittal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5" name="Group 11"/>
            <p:cNvGrpSpPr/>
            <p:nvPr/>
          </p:nvGrpSpPr>
          <p:grpSpPr>
            <a:xfrm>
              <a:off x="687240" y="2666880"/>
              <a:ext cx="2298960" cy="876600"/>
              <a:chOff x="687240" y="2666880"/>
              <a:chExt cx="2298960" cy="876600"/>
            </a:xfrm>
          </p:grpSpPr>
          <p:sp>
            <p:nvSpPr>
              <p:cNvPr id="246" name="Oval 12"/>
              <p:cNvSpPr/>
              <p:nvPr/>
            </p:nvSpPr>
            <p:spPr>
              <a:xfrm>
                <a:off x="687240" y="2666880"/>
                <a:ext cx="2298960" cy="87660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13"/>
              <p:cNvSpPr/>
              <p:nvPr/>
            </p:nvSpPr>
            <p:spPr>
              <a:xfrm>
                <a:off x="1264680" y="2814480"/>
                <a:ext cx="11422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itle Page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8" name="Group 14"/>
            <p:cNvGrpSpPr/>
            <p:nvPr/>
          </p:nvGrpSpPr>
          <p:grpSpPr>
            <a:xfrm>
              <a:off x="687240" y="3854520"/>
              <a:ext cx="2298960" cy="876240"/>
              <a:chOff x="687240" y="3854520"/>
              <a:chExt cx="2298960" cy="876240"/>
            </a:xfrm>
          </p:grpSpPr>
          <p:sp>
            <p:nvSpPr>
              <p:cNvPr id="249" name="Oval 15"/>
              <p:cNvSpPr/>
              <p:nvPr/>
            </p:nvSpPr>
            <p:spPr>
              <a:xfrm>
                <a:off x="687240" y="3854520"/>
                <a:ext cx="2298960" cy="8762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16"/>
              <p:cNvSpPr/>
              <p:nvPr/>
            </p:nvSpPr>
            <p:spPr>
              <a:xfrm>
                <a:off x="890640" y="4002120"/>
                <a:ext cx="18936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ble of Content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51" name="Group 17"/>
            <p:cNvGrpSpPr/>
            <p:nvPr/>
          </p:nvGrpSpPr>
          <p:grpSpPr>
            <a:xfrm>
              <a:off x="687240" y="5118120"/>
              <a:ext cx="2298960" cy="876240"/>
              <a:chOff x="687240" y="5118120"/>
              <a:chExt cx="2298960" cy="876240"/>
            </a:xfrm>
          </p:grpSpPr>
          <p:sp>
            <p:nvSpPr>
              <p:cNvPr id="252" name="Oval 18"/>
              <p:cNvSpPr/>
              <p:nvPr/>
            </p:nvSpPr>
            <p:spPr>
              <a:xfrm>
                <a:off x="687240" y="5118120"/>
                <a:ext cx="2298960" cy="8762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19"/>
              <p:cNvSpPr/>
              <p:nvPr/>
            </p:nvSpPr>
            <p:spPr>
              <a:xfrm>
                <a:off x="780840" y="5143680"/>
                <a:ext cx="211140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xecutive Summary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nd Fact Sheet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4" name="Rectangle 20"/>
            <p:cNvSpPr/>
            <p:nvPr/>
          </p:nvSpPr>
          <p:spPr>
            <a:xfrm>
              <a:off x="3835440" y="1684440"/>
              <a:ext cx="4165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roduce your business plan to the read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the major features that may be of interes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21"/>
            <p:cNvSpPr/>
            <p:nvPr/>
          </p:nvSpPr>
          <p:spPr>
            <a:xfrm>
              <a:off x="3835440" y="2722680"/>
              <a:ext cx="423216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vide identifying information about you and your proposed business. Name, address and contact numbers for the business as well as key company contac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22"/>
            <p:cNvSpPr/>
            <p:nvPr/>
          </p:nvSpPr>
          <p:spPr>
            <a:xfrm>
              <a:off x="3835440" y="4033800"/>
              <a:ext cx="39765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list of the major headings and sub-headings contained in your plan.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23"/>
            <p:cNvSpPr/>
            <p:nvPr/>
          </p:nvSpPr>
          <p:spPr>
            <a:xfrm>
              <a:off x="3835440" y="4871880"/>
              <a:ext cx="400212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1-2 page summary of the most important points in your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y be the most important part of your business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Fact Sheet summarizes the basic information that relates to the ventur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24"/>
            <p:cNvSpPr/>
            <p:nvPr/>
          </p:nvSpPr>
          <p:spPr>
            <a:xfrm>
              <a:off x="585720" y="1103400"/>
              <a:ext cx="250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siness Plan Conten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Line 25"/>
            <p:cNvSpPr/>
            <p:nvPr/>
          </p:nvSpPr>
          <p:spPr>
            <a:xfrm>
              <a:off x="3048120" y="19432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Line 26"/>
            <p:cNvSpPr/>
            <p:nvPr/>
          </p:nvSpPr>
          <p:spPr>
            <a:xfrm>
              <a:off x="3048120" y="55562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Line 27"/>
            <p:cNvSpPr/>
            <p:nvPr/>
          </p:nvSpPr>
          <p:spPr>
            <a:xfrm>
              <a:off x="3048120" y="4292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Line 28"/>
            <p:cNvSpPr/>
            <p:nvPr/>
          </p:nvSpPr>
          <p:spPr>
            <a:xfrm>
              <a:off x="3048120" y="3105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3" name="Rectangle 29"/>
          <p:cNvSpPr/>
          <p:nvPr/>
        </p:nvSpPr>
        <p:spPr>
          <a:xfrm>
            <a:off x="7818120" y="628164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3244680" y="98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1315080" y="533520"/>
            <a:ext cx="6517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716040" y="1536840"/>
            <a:ext cx="2298600" cy="876240"/>
            <a:chOff x="716040" y="1536840"/>
            <a:chExt cx="2298600" cy="876240"/>
          </a:xfrm>
        </p:grpSpPr>
        <p:sp>
          <p:nvSpPr>
            <p:cNvPr id="267" name="Oval 4"/>
            <p:cNvSpPr/>
            <p:nvPr/>
          </p:nvSpPr>
          <p:spPr>
            <a:xfrm>
              <a:off x="716040" y="1536840"/>
              <a:ext cx="229860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5"/>
            <p:cNvSpPr/>
            <p:nvPr/>
          </p:nvSpPr>
          <p:spPr>
            <a:xfrm>
              <a:off x="982080" y="1684440"/>
              <a:ext cx="1782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" name="Group 6"/>
          <p:cNvGrpSpPr/>
          <p:nvPr/>
        </p:nvGrpSpPr>
        <p:grpSpPr>
          <a:xfrm>
            <a:off x="3886200" y="2209680"/>
            <a:ext cx="4336560" cy="1050840"/>
            <a:chOff x="3886200" y="2209680"/>
            <a:chExt cx="4336560" cy="1050840"/>
          </a:xfrm>
        </p:grpSpPr>
        <p:sp>
          <p:nvSpPr>
            <p:cNvPr id="270" name="AutoShape 7"/>
            <p:cNvSpPr/>
            <p:nvPr/>
          </p:nvSpPr>
          <p:spPr>
            <a:xfrm>
              <a:off x="3892320" y="2209680"/>
              <a:ext cx="4330440" cy="10508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3886200" y="2304360"/>
              <a:ext cx="42318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story and current situation of your compan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oals and objectives for the busines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ncipal characteristics and trends in the industr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2" name="Group 9"/>
          <p:cNvGrpSpPr/>
          <p:nvPr/>
        </p:nvGrpSpPr>
        <p:grpSpPr>
          <a:xfrm>
            <a:off x="3848040" y="3416400"/>
            <a:ext cx="4337280" cy="753840"/>
            <a:chOff x="3848040" y="3416400"/>
            <a:chExt cx="4337280" cy="753840"/>
          </a:xfrm>
        </p:grpSpPr>
        <p:sp>
          <p:nvSpPr>
            <p:cNvPr id="273" name="AutoShape 10"/>
            <p:cNvSpPr/>
            <p:nvPr/>
          </p:nvSpPr>
          <p:spPr>
            <a:xfrm>
              <a:off x="3854520" y="3416400"/>
              <a:ext cx="4330800" cy="74448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11"/>
            <p:cNvSpPr/>
            <p:nvPr/>
          </p:nvSpPr>
          <p:spPr>
            <a:xfrm>
              <a:off x="3848040" y="3438360"/>
              <a:ext cx="42926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ed description of your product or servic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stage of development and proprietary posi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5" name="Group 12"/>
          <p:cNvGrpSpPr/>
          <p:nvPr/>
        </p:nvGrpSpPr>
        <p:grpSpPr>
          <a:xfrm>
            <a:off x="3848040" y="4508640"/>
            <a:ext cx="4337280" cy="1454040"/>
            <a:chOff x="3848040" y="4508640"/>
            <a:chExt cx="4337280" cy="1454040"/>
          </a:xfrm>
        </p:grpSpPr>
        <p:sp>
          <p:nvSpPr>
            <p:cNvPr id="276" name="AutoShape 13"/>
            <p:cNvSpPr/>
            <p:nvPr/>
          </p:nvSpPr>
          <p:spPr>
            <a:xfrm>
              <a:off x="3854520" y="4508640"/>
              <a:ext cx="4330800" cy="14540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Rectangle 14"/>
            <p:cNvSpPr/>
            <p:nvPr/>
          </p:nvSpPr>
          <p:spPr>
            <a:xfrm>
              <a:off x="3848040" y="4522680"/>
              <a:ext cx="433080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be the profile of your principal target customer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te current market size, trends, and seasonal pattern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ss the nature of your competi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timate your expected sales and market shar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8" name="Rectangle 15"/>
          <p:cNvSpPr/>
          <p:nvPr/>
        </p:nvSpPr>
        <p:spPr>
          <a:xfrm>
            <a:off x="649440" y="2631960"/>
            <a:ext cx="243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ny and the Indust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6"/>
          <p:cNvSpPr/>
          <p:nvPr/>
        </p:nvSpPr>
        <p:spPr>
          <a:xfrm>
            <a:off x="717480" y="3637080"/>
            <a:ext cx="229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-Service Offer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17"/>
          <p:cNvSpPr/>
          <p:nvPr/>
        </p:nvSpPr>
        <p:spPr>
          <a:xfrm>
            <a:off x="1094040" y="5083200"/>
            <a:ext cx="1542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Analys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18"/>
          <p:cNvSpPr/>
          <p:nvPr/>
        </p:nvSpPr>
        <p:spPr>
          <a:xfrm>
            <a:off x="2971800" y="27846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2971800" y="378936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2971800" y="523548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21"/>
          <p:cNvSpPr/>
          <p:nvPr/>
        </p:nvSpPr>
        <p:spPr>
          <a:xfrm>
            <a:off x="7484760" y="624348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22"/>
          <p:cNvSpPr/>
          <p:nvPr/>
        </p:nvSpPr>
        <p:spPr>
          <a:xfrm>
            <a:off x="5805000" y="655488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3276720" y="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1513440" y="534960"/>
            <a:ext cx="6517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779400" y="1816200"/>
            <a:ext cx="7378920" cy="4190760"/>
            <a:chOff x="779400" y="1816200"/>
            <a:chExt cx="7378920" cy="4190760"/>
          </a:xfrm>
        </p:grpSpPr>
        <p:sp>
          <p:nvSpPr>
            <p:cNvPr id="289" name="AutoShape 4"/>
            <p:cNvSpPr/>
            <p:nvPr/>
          </p:nvSpPr>
          <p:spPr>
            <a:xfrm>
              <a:off x="3827520" y="1816200"/>
              <a:ext cx="4330800" cy="10922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5"/>
            <p:cNvSpPr/>
            <p:nvPr/>
          </p:nvSpPr>
          <p:spPr>
            <a:xfrm>
              <a:off x="3821040" y="1890720"/>
              <a:ext cx="43308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 the marketing strategy you plan to us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be your marketing plan insofar as your sales strategy, advertising and promotion plans, pricing policy, and channels of distribu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6"/>
            <p:cNvSpPr/>
            <p:nvPr/>
          </p:nvSpPr>
          <p:spPr>
            <a:xfrm>
              <a:off x="917280" y="2209680"/>
              <a:ext cx="190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Marketing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7"/>
            <p:cNvSpPr/>
            <p:nvPr/>
          </p:nvSpPr>
          <p:spPr>
            <a:xfrm>
              <a:off x="2932200" y="236232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AutoShape 8"/>
            <p:cNvSpPr/>
            <p:nvPr/>
          </p:nvSpPr>
          <p:spPr>
            <a:xfrm>
              <a:off x="3827520" y="3365640"/>
              <a:ext cx="4330800" cy="120636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9"/>
            <p:cNvSpPr/>
            <p:nvPr/>
          </p:nvSpPr>
          <p:spPr>
            <a:xfrm>
              <a:off x="3821040" y="3390840"/>
              <a:ext cx="433080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of the development status of your product and what is still required to get it to a market-ready stat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e there regulatory, testing or other requirements that still have to be met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10"/>
            <p:cNvSpPr/>
            <p:nvPr/>
          </p:nvSpPr>
          <p:spPr>
            <a:xfrm>
              <a:off x="779400" y="3816360"/>
              <a:ext cx="2184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Development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11"/>
            <p:cNvSpPr/>
            <p:nvPr/>
          </p:nvSpPr>
          <p:spPr>
            <a:xfrm>
              <a:off x="2932200" y="396864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AutoShape 12"/>
            <p:cNvSpPr/>
            <p:nvPr/>
          </p:nvSpPr>
          <p:spPr>
            <a:xfrm>
              <a:off x="3827520" y="4991040"/>
              <a:ext cx="4330800" cy="10159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13"/>
            <p:cNvSpPr/>
            <p:nvPr/>
          </p:nvSpPr>
          <p:spPr>
            <a:xfrm>
              <a:off x="3821040" y="5027760"/>
              <a:ext cx="43308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the operating side of your busines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be your location, kind of facilities, space requirements, capital equipment needs, and labour require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14"/>
            <p:cNvSpPr/>
            <p:nvPr/>
          </p:nvSpPr>
          <p:spPr>
            <a:xfrm>
              <a:off x="813600" y="5133960"/>
              <a:ext cx="21142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ion/Operation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15"/>
            <p:cNvSpPr/>
            <p:nvPr/>
          </p:nvSpPr>
          <p:spPr>
            <a:xfrm>
              <a:off x="2932200" y="549900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1" name="Rectangle 16"/>
          <p:cNvSpPr/>
          <p:nvPr/>
        </p:nvSpPr>
        <p:spPr>
          <a:xfrm>
            <a:off x="7243560" y="593892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3214800" y="14940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5779800" y="654192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519120" y="1219320"/>
            <a:ext cx="2298600" cy="876240"/>
            <a:chOff x="519120" y="1219320"/>
            <a:chExt cx="2298600" cy="876240"/>
          </a:xfrm>
        </p:grpSpPr>
        <p:sp>
          <p:nvSpPr>
            <p:cNvPr id="305" name="Oval 20"/>
            <p:cNvSpPr/>
            <p:nvPr/>
          </p:nvSpPr>
          <p:spPr>
            <a:xfrm>
              <a:off x="519120" y="1219320"/>
              <a:ext cx="229860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1"/>
            <p:cNvSpPr/>
            <p:nvPr/>
          </p:nvSpPr>
          <p:spPr>
            <a:xfrm>
              <a:off x="778680" y="1244520"/>
              <a:ext cx="178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Continued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1447920" y="609480"/>
            <a:ext cx="6933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7103880" y="528624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5756040" y="653112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3222720" y="250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" name="Group 6"/>
          <p:cNvGrpSpPr/>
          <p:nvPr/>
        </p:nvGrpSpPr>
        <p:grpSpPr>
          <a:xfrm>
            <a:off x="968040" y="2298600"/>
            <a:ext cx="7268040" cy="2870280"/>
            <a:chOff x="968040" y="2298600"/>
            <a:chExt cx="7268040" cy="2870280"/>
          </a:xfrm>
        </p:grpSpPr>
        <p:sp>
          <p:nvSpPr>
            <p:cNvPr id="312" name="AutoShape 7"/>
            <p:cNvSpPr/>
            <p:nvPr/>
          </p:nvSpPr>
          <p:spPr>
            <a:xfrm>
              <a:off x="3905280" y="3962520"/>
              <a:ext cx="4330800" cy="120636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8"/>
            <p:cNvSpPr/>
            <p:nvPr/>
          </p:nvSpPr>
          <p:spPr>
            <a:xfrm>
              <a:off x="3898800" y="3987720"/>
              <a:ext cx="433080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sent an overall schedule indicating what needs to be done to launch your business and the timing required to bring it ab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cuss the major problems and risks that you will have to deal with as wel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968040" y="4307040"/>
              <a:ext cx="2007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Implementatio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Line 10"/>
            <p:cNvSpPr/>
            <p:nvPr/>
          </p:nvSpPr>
          <p:spPr>
            <a:xfrm>
              <a:off x="3003480" y="456552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AutoShape 11"/>
            <p:cNvSpPr/>
            <p:nvPr/>
          </p:nvSpPr>
          <p:spPr>
            <a:xfrm>
              <a:off x="3905280" y="2298600"/>
              <a:ext cx="4330800" cy="12067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12"/>
            <p:cNvSpPr/>
            <p:nvPr/>
          </p:nvSpPr>
          <p:spPr>
            <a:xfrm>
              <a:off x="3898800" y="2324160"/>
              <a:ext cx="433080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dentify your key management people, their responsibilities and their qualification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te the principal shareholders of the business, your principal advisors and the members of your Board of Director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13"/>
            <p:cNvSpPr/>
            <p:nvPr/>
          </p:nvSpPr>
          <p:spPr>
            <a:xfrm>
              <a:off x="1106640" y="2643120"/>
              <a:ext cx="17272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Managem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Line 14"/>
            <p:cNvSpPr/>
            <p:nvPr/>
          </p:nvSpPr>
          <p:spPr>
            <a:xfrm>
              <a:off x="3003480" y="290196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0" name="Group 15"/>
          <p:cNvGrpSpPr/>
          <p:nvPr/>
        </p:nvGrpSpPr>
        <p:grpSpPr>
          <a:xfrm>
            <a:off x="776160" y="1460520"/>
            <a:ext cx="2298960" cy="876240"/>
            <a:chOff x="776160" y="1460520"/>
            <a:chExt cx="2298960" cy="876240"/>
          </a:xfrm>
        </p:grpSpPr>
        <p:sp>
          <p:nvSpPr>
            <p:cNvPr id="321" name="Oval 16"/>
            <p:cNvSpPr/>
            <p:nvPr/>
          </p:nvSpPr>
          <p:spPr>
            <a:xfrm>
              <a:off x="776160" y="1460520"/>
              <a:ext cx="229896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17"/>
            <p:cNvSpPr/>
            <p:nvPr/>
          </p:nvSpPr>
          <p:spPr>
            <a:xfrm>
              <a:off x="1036080" y="1486080"/>
              <a:ext cx="178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Continued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1600200" y="45720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4" name="Group 3"/>
          <p:cNvGrpSpPr/>
          <p:nvPr/>
        </p:nvGrpSpPr>
        <p:grpSpPr>
          <a:xfrm>
            <a:off x="3903840" y="2347920"/>
            <a:ext cx="4330440" cy="2933640"/>
            <a:chOff x="3903840" y="2347920"/>
            <a:chExt cx="4330440" cy="2933640"/>
          </a:xfrm>
        </p:grpSpPr>
        <p:sp>
          <p:nvSpPr>
            <p:cNvPr id="325" name="AutoShape 4"/>
            <p:cNvSpPr/>
            <p:nvPr/>
          </p:nvSpPr>
          <p:spPr>
            <a:xfrm>
              <a:off x="3903840" y="2347920"/>
              <a:ext cx="4330440" cy="29336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5"/>
            <p:cNvSpPr/>
            <p:nvPr/>
          </p:nvSpPr>
          <p:spPr>
            <a:xfrm>
              <a:off x="3948120" y="2409840"/>
              <a:ext cx="4232160" cy="28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te the type and amount of financing you are looking for and how the funds will be use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your proposed terms of investment, the potential return to the investor, and what benefit is being provide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vide an overview of the current financial structure of your busines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pare realistic financial projections that reflect the effect of financing. Include: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h flow forecas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 forma profit and loss state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 forma balance shee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eakeven analysi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" name="Line 6"/>
          <p:cNvSpPr/>
          <p:nvPr/>
        </p:nvSpPr>
        <p:spPr>
          <a:xfrm>
            <a:off x="3103560" y="3770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753120" y="3571920"/>
            <a:ext cx="2065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Financial Pl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866920" y="657216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5091120" y="42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6874560" y="537228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2" name="Group 11"/>
          <p:cNvGrpSpPr/>
          <p:nvPr/>
        </p:nvGrpSpPr>
        <p:grpSpPr>
          <a:xfrm>
            <a:off x="534960" y="1927080"/>
            <a:ext cx="2298600" cy="876600"/>
            <a:chOff x="534960" y="1927080"/>
            <a:chExt cx="2298600" cy="876600"/>
          </a:xfrm>
        </p:grpSpPr>
        <p:sp>
          <p:nvSpPr>
            <p:cNvPr id="333" name="Oval 12"/>
            <p:cNvSpPr/>
            <p:nvPr/>
          </p:nvSpPr>
          <p:spPr>
            <a:xfrm>
              <a:off x="534960" y="1927080"/>
              <a:ext cx="2298600" cy="8766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13"/>
            <p:cNvSpPr/>
            <p:nvPr/>
          </p:nvSpPr>
          <p:spPr>
            <a:xfrm>
              <a:off x="794520" y="1952640"/>
              <a:ext cx="178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Continued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725400" y="3173400"/>
            <a:ext cx="2298960" cy="876240"/>
            <a:chOff x="725400" y="3173400"/>
            <a:chExt cx="2298960" cy="876240"/>
          </a:xfrm>
        </p:grpSpPr>
        <p:sp>
          <p:nvSpPr>
            <p:cNvPr id="336" name="Oval 3"/>
            <p:cNvSpPr/>
            <p:nvPr/>
          </p:nvSpPr>
          <p:spPr>
            <a:xfrm>
              <a:off x="725400" y="3173400"/>
              <a:ext cx="229896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Rectangle 4"/>
            <p:cNvSpPr/>
            <p:nvPr/>
          </p:nvSpPr>
          <p:spPr>
            <a:xfrm>
              <a:off x="1209960" y="3321000"/>
              <a:ext cx="1332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pendic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8" name="Group 5"/>
          <p:cNvGrpSpPr/>
          <p:nvPr/>
        </p:nvGrpSpPr>
        <p:grpSpPr>
          <a:xfrm>
            <a:off x="3886200" y="2438280"/>
            <a:ext cx="4330800" cy="2386080"/>
            <a:chOff x="3886200" y="2438280"/>
            <a:chExt cx="4330800" cy="2386080"/>
          </a:xfrm>
        </p:grpSpPr>
        <p:sp>
          <p:nvSpPr>
            <p:cNvPr id="339" name="AutoShape 6"/>
            <p:cNvSpPr/>
            <p:nvPr/>
          </p:nvSpPr>
          <p:spPr>
            <a:xfrm>
              <a:off x="3886200" y="2438280"/>
              <a:ext cx="4330800" cy="238608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3905280" y="2498760"/>
              <a:ext cx="4002120" cy="20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porting material for your plan including: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ed resumes of the management te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 literature and photograph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mes of possible customers and supplier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sulting reports and market survey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pies of legal 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ity materia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tters of referenc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1" name="Line 8"/>
          <p:cNvSpPr/>
          <p:nvPr/>
        </p:nvSpPr>
        <p:spPr>
          <a:xfrm>
            <a:off x="3067200" y="3611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1523880" y="747720"/>
            <a:ext cx="716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3451320" y="123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5805000" y="652932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7360" y="380880"/>
            <a:ext cx="848664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4617b"/>
                </a:solidFill>
                <a:latin typeface="Calibri"/>
              </a:rPr>
              <a:t>Tips for Developing Your Business Pla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usiness planning involves a lot of work. Be prepared to spend weeks developing your pla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Work on sections at a ti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e brief but comple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Focus on your intended read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Use layman’s ter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e realisti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Discuss the risks associated with the busi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ack up your statements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with background data and market inform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7" name="Object 1024" descr=""/>
          <p:cNvPicPr/>
          <p:nvPr/>
        </p:nvPicPr>
        <p:blipFill>
          <a:blip r:embed="rId1"/>
          <a:stretch/>
        </p:blipFill>
        <p:spPr>
          <a:xfrm>
            <a:off x="6553080" y="2971800"/>
            <a:ext cx="2181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</a:rPr>
              <a:t>The Components of Successful Entrepreneurial Ven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304920" y="1752480"/>
            <a:ext cx="8838720" cy="4228920"/>
            <a:chOff x="304920" y="1752480"/>
            <a:chExt cx="8838720" cy="4228920"/>
          </a:xfrm>
        </p:grpSpPr>
        <p:sp>
          <p:nvSpPr>
            <p:cNvPr id="199" name="Rectangle 4"/>
            <p:cNvSpPr/>
            <p:nvPr/>
          </p:nvSpPr>
          <p:spPr>
            <a:xfrm>
              <a:off x="3905280" y="5410080"/>
              <a:ext cx="1561680" cy="5713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7410240" y="3429000"/>
              <a:ext cx="1561680" cy="57132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Rectangle 6"/>
            <p:cNvSpPr/>
            <p:nvPr/>
          </p:nvSpPr>
          <p:spPr>
            <a:xfrm>
              <a:off x="6191280" y="1752480"/>
              <a:ext cx="1790280" cy="571320"/>
            </a:xfrm>
            <a:prstGeom prst="rect">
              <a:avLst/>
            </a:prstGeom>
            <a:solidFill>
              <a:srgbClr val="ffcc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399960" y="3504960"/>
              <a:ext cx="1790280" cy="57168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1009440" y="1828800"/>
              <a:ext cx="2400120" cy="5713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824200" y="2881080"/>
              <a:ext cx="3647520" cy="1590840"/>
            </a:xfrm>
            <a:prstGeom prst="rect">
              <a:avLst/>
            </a:prstGeom>
            <a:solidFill>
              <a:srgbClr val="99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usiness Plan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1066680" y="1885680"/>
              <a:ext cx="2437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Entrepreneu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11"/>
            <p:cNvSpPr/>
            <p:nvPr/>
          </p:nvSpPr>
          <p:spPr>
            <a:xfrm>
              <a:off x="5715000" y="1809720"/>
              <a:ext cx="2895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portunit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12"/>
            <p:cNvSpPr/>
            <p:nvPr/>
          </p:nvSpPr>
          <p:spPr>
            <a:xfrm>
              <a:off x="7238880" y="3485880"/>
              <a:ext cx="1904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304920" y="3562200"/>
              <a:ext cx="198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>
              <a:off x="3504960" y="5467320"/>
              <a:ext cx="228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2514600" y="2419200"/>
              <a:ext cx="7614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 flipH="1">
              <a:off x="5715000" y="2342880"/>
              <a:ext cx="685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 flipH="1">
              <a:off x="6476400" y="3714480"/>
              <a:ext cx="91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 flipV="1">
              <a:off x="4647960" y="44766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19"/>
            <p:cNvSpPr/>
            <p:nvPr/>
          </p:nvSpPr>
          <p:spPr>
            <a:xfrm>
              <a:off x="2209680" y="379080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371600" y="5335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Business Pl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371600" y="1905120"/>
            <a:ext cx="739620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“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Business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s a “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Selling Docu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that conveys the excitement and promise of your business to any potential backers and stakeholder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7" name="Object 4"/>
          <p:cNvGraphicFramePr/>
          <p:nvPr/>
        </p:nvGraphicFramePr>
        <p:xfrm>
          <a:off x="2895480" y="4114800"/>
          <a:ext cx="345456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114800"/>
                    <a:ext cx="34545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WPWIN\Busplan\sherm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29528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Reasons for Writing a Business Pl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319040" y="1886040"/>
            <a:ext cx="73170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ll yourself on the 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btain bank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btain investment f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stablish strategic allia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btain initial contr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ttract key employ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otivate and focus your management t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22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523880" y="457200"/>
            <a:ext cx="67057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Types of Business Pla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831960" y="2133720"/>
            <a:ext cx="716904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The Summary Business Plan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 Loan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style 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auge initial investor i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1295280" y="53352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Types of Business Pla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836640" y="2209680"/>
            <a:ext cx="73976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The Full Business Plan</a:t>
            </a:r>
            <a:r>
              <a:rPr b="0" lang="en-US" sz="3200" spc="-1" strike="noStrike">
                <a:solidFill>
                  <a:srgbClr val="114ffb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114f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4ff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-40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ing a substantial amount of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ing for a Strategic Part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774720" y="568440"/>
            <a:ext cx="8369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Types of Business Pla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662760" y="1981080"/>
            <a:ext cx="73825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The Operational Pl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+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, rapidly growing compan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an annual planning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066680" y="465120"/>
            <a:ext cx="80773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Key Elements of a Business Pl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1374840" y="2362320"/>
            <a:ext cx="7235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conomically viable product or service with attractive marke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stablished attack plan that can be replic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asoned management team that has demonstrated it can carry out the attack p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2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5:58:27Z</dcterms:created>
  <dc:creator>Walter S. Good</dc:creator>
  <dc:description/>
  <dc:language>en-US</dc:language>
  <cp:lastModifiedBy>paul.tilley</cp:lastModifiedBy>
  <cp:lastPrinted>2002-03-05T04:42:41Z</cp:lastPrinted>
  <dcterms:modified xsi:type="dcterms:W3CDTF">2011-04-25T17:54:04Z</dcterms:modified>
  <cp:revision>14</cp:revision>
  <dc:subject/>
  <dc:title>Entrepreneurship and Business Planning</dc:title>
</cp:coreProperties>
</file>